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957-15DD-4EA8-942D-5C5410EC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BE2-9BDF-47DB-944F-C7A42B3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F8C-0FEA-42D9-BF16-D280F36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EFC-FF1A-4A32-836B-BDF26DCD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AFA-C944-4037-A751-C7CEE780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B059-B385-4834-92E7-E5943F2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21E-D5C4-4DA2-B42F-ECE6C8D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C2B8-CD01-44D6-8C9F-020CA18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40D8-99DA-426F-A32B-40E806E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662B-0381-4823-9301-02F47F4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ADB1-0806-446B-9AEE-9EDDFBD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E8C-678B-42AD-AFF8-B9F521EB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83F8-854C-4245-99D2-661B1DA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C4B9-8890-4BFF-B3E1-942AB21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D36-C548-42AD-BCC9-49C6399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D74A-A40F-4CB5-BA04-9CE27FED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DC6-A924-4BCA-9955-DA241887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4F4-36B6-4F10-B5CC-FC9E1E6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58D-D4E8-4FFA-8D93-4F03177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3DB-7A5C-4E54-94FA-38DAEB8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05F-C919-4F9D-8497-A2DF6D3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E27-B5FE-479A-B87E-3DF4419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FB0-1BF5-47EB-9CB1-76AE2E02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CE5-0800-4662-9AC8-02A7B24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44AC-B9E8-4364-ACB7-8FC455A12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762-5A8C-498B-A147-954C58C7D69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611280" y="785880"/>
            <a:ext cx="8532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a50021"/>
                </a:solidFill>
                <a:latin typeface="Times New Roman"/>
              </a:rPr>
              <a:t>                                  </a:t>
            </a:r>
            <a:r>
              <a:rPr b="1" i="1" lang="uk-UA" sz="8000" spc="-1" strike="noStrike">
                <a:solidFill>
                  <a:srgbClr val="a50021"/>
                </a:solidFill>
                <a:latin typeface="Times New Roman"/>
              </a:rPr>
              <a:t>Вкарбовани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i="1" lang="uk-UA" sz="8000" spc="-1" strike="noStrike">
                <a:solidFill>
                  <a:srgbClr val="a50021"/>
                </a:solidFill>
                <a:latin typeface="Times New Roman"/>
              </a:rPr>
              <a:t>у пам'яті </a:t>
            </a:r>
            <a:br>
              <a:rPr sz="8000"/>
            </a:br>
            <a:r>
              <a:rPr b="1" i="1" lang="uk-UA" sz="24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Герой Радянського Союзу сапер І.Бойко</a:t>
            </a:r>
            <a:br>
              <a:rPr sz="36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57600" y="60721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</a:rPr>
              <a:t>Херсон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56840" y="999720"/>
            <a:ext cx="76201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ПОДВИГ НАРОДА БУДЕ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ЖИТЬ В ВЕКА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6800" y="5331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0021"/>
                </a:solidFill>
                <a:latin typeface="Times New Roman"/>
              </a:rPr>
              <a:t>Херсонська загальноосвітня школа І-ІІІ ступенів №53</a:t>
            </a:r>
            <a:br>
              <a:rPr sz="2800"/>
            </a:br>
            <a:r>
              <a:rPr b="0" lang="uk-UA" sz="2800" spc="-1" strike="noStrike">
                <a:solidFill>
                  <a:srgbClr val="a50021"/>
                </a:solidFill>
                <a:latin typeface="Times New Roman"/>
              </a:rPr>
              <a:t>             Херсонської міської р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98108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Виконавець:</a:t>
            </a:r>
            <a:r>
              <a:rPr b="0" lang="uk-UA" sz="3200" spc="-1" strike="noStrike">
                <a:solidFill>
                  <a:srgbClr val="a50021"/>
                </a:solidFill>
                <a:latin typeface="Times New Roman"/>
              </a:rPr>
              <a:t>учениця 9-Б класу </a:t>
            </a:r>
            <a:br>
              <a:rPr sz="3200"/>
            </a:br>
            <a:r>
              <a:rPr b="0" lang="uk-UA" sz="32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Процюк Марина</a:t>
            </a:r>
            <a:br>
              <a:rPr sz="3200"/>
            </a:b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Керівник:</a:t>
            </a:r>
            <a:r>
              <a:rPr b="0" lang="uk-UA" sz="3200" spc="-1" strike="noStrike">
                <a:solidFill>
                  <a:srgbClr val="a50021"/>
                </a:solidFill>
                <a:latin typeface="Times New Roman"/>
              </a:rPr>
              <a:t>Вчитель історії </a:t>
            </a: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Штогріна О.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1240" y="549000"/>
            <a:ext cx="76201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Impact"/>
              </a:rPr>
              <a:t>Вставай </a:t>
            </a:r>
            <a:r>
              <a:rPr b="1" lang="ru-RU" sz="2800" spc="-1" strike="noStrike">
                <a:solidFill>
                  <a:srgbClr val="ff0000"/>
                </a:solidFill>
                <a:latin typeface="Impact"/>
              </a:rPr>
              <a:t>страна огромн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Impact"/>
              </a:rPr>
              <a:t>Вставай на смертный бой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 песня-воззвание разнеслась на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ной в тревожное лето 1941 года. «Наше дело правое!» - звучал в репродукторах голос Левит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ни одной семьи в нашей стране, которую, так или иначе, не коснулась вой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хочется рассказать о моем прадедушке Герое Великой Отечественной Войны, сапере,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ване Ивановиче Бойк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167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2010 году я побывала на торжественном митинге к 65- летию Победы в селе Саги Цюрупинского района у памятника своему дед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атья из газеты «Гривна», день открытия памятника И.И. Бойк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100_3195"/>
          <p:cNvPicPr/>
          <p:nvPr/>
        </p:nvPicPr>
        <p:blipFill>
          <a:blip r:embed="rId2"/>
          <a:stretch/>
        </p:blipFill>
        <p:spPr>
          <a:xfrm>
            <a:off x="1547640" y="1309680"/>
            <a:ext cx="73980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356000" y="189000"/>
            <a:ext cx="478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йко Иван Иванович. Он уроженец села Саги Цюрупинского района Херсонской области. В 1937 году был призван на службу в армию. Уже заканчивался срок службы, как грянула война. Он в первых рядах, как солдат, встал на защиту своей земли. Дед окончил школу саперов. Быстрый, умелый, решительный – он стал командиром саперного отделения в составе 73 гвардейской стрелковой дивизии. Им пришлось сдерживать вражеские полчища на подступах к Одессе, участвовать в Сталинградской операции, Орлово - Курской битве, форсировать Днепр и многое друго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oyko_IvanIvan"/>
          <p:cNvPicPr/>
          <p:nvPr/>
        </p:nvPicPr>
        <p:blipFill>
          <a:blip r:embed="rId2"/>
          <a:stretch/>
        </p:blipFill>
        <p:spPr>
          <a:xfrm>
            <a:off x="1332000" y="1197000"/>
            <a:ext cx="3197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35280" y="188640"/>
            <a:ext cx="460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дной из самых сложных боевых операций в годы войны была битва за Днепр осенью 1943 года. Иван Иванович Бойко в числе первых переправился на правый берег, где построил укрепление враг.  В наградном листе так описан его подвиг: «В ночь с 24 на 25 сентября 1943 года тов. И. И. Бойко сделал разведку мест переправы наших частей и организовал ее. Лично им переправлено до 200 бойцов и до 5т боеприпасов, эвакуировано до 100 раненых бойцов и командиров. Он трижды был контужен, но не считаясь с угрозой для своей жизни, упорно выполнял боевые задания для обеспечения боя…Приходилось бесперебойно работать круглые сутки…»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100_3189"/>
          <p:cNvPicPr/>
          <p:nvPr/>
        </p:nvPicPr>
        <p:blipFill>
          <a:blip r:embed="rId2"/>
          <a:stretch/>
        </p:blipFill>
        <p:spPr>
          <a:xfrm>
            <a:off x="1332000" y="260280"/>
            <a:ext cx="3402000" cy="4535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332000" y="5013360"/>
            <a:ext cx="339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«На долгую добрую память Лене и …, и их сыну от Героя Советского Союза Бойко Ивана Ивановича», 17.03.1951, за два года до смер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(Из семейного арх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76720" y="188640"/>
            <a:ext cx="3843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казом Президиума Верховного Совета СССР от 26 октября 1943 года,  за образцовое выполнение боевых заданий командования  и проявления при этом героизма и мужества гвардии сержанту Бойко И.И. присвоено звание Героя Советского Союза с вручением ордена Ленина и медали «Золотая звезда».  В наградном листе, хранящемся в херсонском краеведческом музее, написано: «Гвардеец Бойко проявил особенное мужество и отвагу и потому заслуживает присвоения звания Героя Советского Союза». Ивану тогда только исполнилось  27 л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100_3190"/>
          <p:cNvPicPr/>
          <p:nvPr/>
        </p:nvPicPr>
        <p:blipFill>
          <a:blip r:embed="rId2"/>
          <a:stretch/>
        </p:blipFill>
        <p:spPr>
          <a:xfrm>
            <a:off x="1332000" y="260280"/>
            <a:ext cx="3997080" cy="5329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332000" y="56674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а память племяннику Владимиру Бойко от твоего дяди Вани» 1944 г., 20.10.1952 год отпр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(Из семейного арх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47640" y="3645000"/>
            <a:ext cx="71884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ябре 1953 года, в 37 лет Ивана Ивановича не стало. Его имя увековечено в Киеве в музее Славы, в Херсонском музее, на аллее Славы – на стенах у Вечного огня. На его могиле  в селе Саги поставлен памятник. В Херсоне есть улица имени «Ивана Бойк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 война это страшное испытание, через которое прошел наш народ. Прошел и выдержал с честью. Этих лет не смеркнет слава. Подвиг народа будет жить в ве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аинцы чтут память героев-освободителей, в их честь горит вечный огонь на могиле неизвестного солда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1 (1)"/>
          <p:cNvPicPr/>
          <p:nvPr/>
        </p:nvPicPr>
        <p:blipFill>
          <a:blip r:embed="rId2"/>
          <a:stretch/>
        </p:blipFill>
        <p:spPr>
          <a:xfrm>
            <a:off x="2484360" y="189000"/>
            <a:ext cx="54723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8920" y="5373720"/>
            <a:ext cx="3241800" cy="73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орочинская Александра Степановна (Иванова, 1878 г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(Из семейного архи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2560" y="259920"/>
            <a:ext cx="432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абушка рассказывала свои детские воспоминания, как ее и соседских детей мамы прятали вовремя обстрелов. Рыли узкие щели с нишами на двух детей в разных местах. Когда начиналась бомбежка, дети как зайцы, бежали в разные стороны, к своим щелям. На дне была солома, сверху матери бросали подушки, одежду, чтобы осколки в них запутывались и не ранили ребенка. Иногда приходилось сидеть долго, т.к. фашисты проезжая мимо села, бесконечно строчили из пулеметов по строениям, копнам, кустам. В пустом селе (все прятались в плавнях, песке и др.) они забирали еду, теплую одежду, все живое. Было очень голодно и дети ходили в поле, где осталась замершая капуста и картофель. Приносили домой и варили. Но и это запретили. На поле установили виселицу и повесили табличку- «Смерть» - по ночам по полю бродил луч прожектор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38084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5876640"/>
            <a:ext cx="756144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виновский Иван Николаевич,1938 г., зять И.И. Бойко; Лавиновская Светлана Ивановна,1972 г., внучка; Лавиновская Варвара Ивановна,1999 г, дочь И.И. Бойко; Лавиновский Анатолий Иванович, 1969 г., внук И.И. Бойко. (Из семейного архи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100_3193"/>
          <p:cNvPicPr/>
          <p:nvPr/>
        </p:nvPicPr>
        <p:blipFill>
          <a:blip r:embed="rId2"/>
          <a:stretch/>
        </p:blipFill>
        <p:spPr>
          <a:xfrm>
            <a:off x="3132000" y="189000"/>
            <a:ext cx="39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2:02:29Z</dcterms:created>
  <dc:creator>Чернов Алксей</dc:creator>
  <dc:description/>
  <dc:language>en-US</dc:language>
  <cp:lastModifiedBy>lenovo</cp:lastModifiedBy>
  <dcterms:modified xsi:type="dcterms:W3CDTF">2013-03-13T18:05:41Z</dcterms:modified>
  <cp:revision>57</cp:revision>
  <dc:subject/>
  <dc:title>Презентация PowerPoint</dc:title>
</cp:coreProperties>
</file>